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51F-E2FC-415B-93E8-131F6CD1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391-E136-46AD-8BD6-48115F5F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CC8-D3A5-44E6-B331-3828C11F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131-6ED8-4A9B-926B-96EBDA88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7AEB-FC4A-4FF4-9557-9E4728D5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AC8B-4885-4EEA-8373-07DA73F7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D81D-5975-4AE7-A357-E595F57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EC1F-EF96-49F7-BA5F-D46FDF58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A665-EA1D-4012-9B8E-C5560F4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9864-C5D2-4484-962D-CEE39D79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DC14-B40A-4277-851C-C8C8880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6D2-A59C-42AD-9552-CDA5FE26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589E-A6E2-4327-BE89-6F84F8E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A849-A325-42E6-87DD-68FB6716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A6A1-96BC-4FD7-AE8C-462CF262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D92D-C23D-405B-89D0-1BA5C596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3AA9-9746-438A-A490-1FA2A425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5E2-B7A8-448D-9B6D-EBF9E6E3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CD8-CC73-4981-A6B2-7E46ECDB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006-C794-4F87-AC84-76DA4B78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93E-C4B9-47FC-9A8D-7FDF8E0D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9F0-472F-4E77-8C90-8C1EBDB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A90-1007-4433-B98F-E02B3561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18F-0BEF-42FC-B7FB-095B10BC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23A3-F2C8-4D88-8E6C-AA7125A9F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00FC-F0F4-4674-9404-DF778F4D3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5292720" cy="372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1844640"/>
            <a:ext cx="4464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pogovor med hčerjo in oče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o njeni skrivni ljubez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c0c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hčerino (ne)sprejeman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očetovega svar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95560" y="4576680"/>
            <a:ext cx="4857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de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Ljubezen nima meja; najboljše zdravi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za prepovedano ljubezen je porok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4936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ffff00"/>
                </a:solidFill>
                <a:latin typeface="Verdana"/>
              </a:rPr>
              <a:t>F. Prešeren: Hčere sv</a:t>
            </a:r>
            <a:r>
              <a:rPr b="0" i="1" lang="en-US" sz="4400" spc="-1" strike="noStrike">
                <a:solidFill>
                  <a:srgbClr val="ffff00"/>
                </a:solidFill>
                <a:latin typeface="Verdana"/>
              </a:rPr>
              <a:t>è</a:t>
            </a:r>
            <a:r>
              <a:rPr b="0" i="1" lang="sl-SI" sz="4400" spc="-1" strike="noStrike">
                <a:solidFill>
                  <a:srgbClr val="ffff00"/>
                </a:solidFill>
                <a:latin typeface="Verdana"/>
              </a:rPr>
              <a:t>t</a:t>
            </a:r>
            <a:br>
              <a:rPr sz="4400"/>
            </a:br>
            <a:r>
              <a:rPr b="0" i="1" lang="sl-SI" sz="2400" spc="-1" strike="noStrike">
                <a:solidFill>
                  <a:srgbClr val="ffff00"/>
                </a:solidFill>
                <a:latin typeface="Arial"/>
              </a:rPr>
              <a:t>182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475920"/>
            <a:ext cx="374328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omanca (epi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sem s pripovedno vseb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gosta ljubezenska t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 vsebuje grozljivih motivov (bala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onec vesel ali humo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zvira iz srednjeveške ljudske pesmi oz. iz španske ro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549360"/>
            <a:ext cx="3743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Zunanja zgrad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kitice, različno število verz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 rime, pojavi se asonanca, enozložna (ujemanje samoglasniko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781360"/>
            <a:ext cx="3743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liko dialektizmov, arhaizmov, manjšal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2565360"/>
            <a:ext cx="374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verz je osemzložni troh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00720" y="2781360"/>
            <a:ext cx="863280" cy="165564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4797360"/>
            <a:ext cx="4959360" cy="1297080"/>
          </a:xfrm>
          <a:prstGeom prst="parallelogram">
            <a:avLst>
              <a:gd name="adj" fmla="val 95587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Ljubice pod okno dra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–  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U –   U  –  U  –  U  </a:t>
            </a:r>
            <a:br>
              <a:rPr sz="1800"/>
            </a:b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ride marsiktéro noč,</a:t>
            </a:r>
            <a:br>
              <a:rPr sz="1800"/>
            </a:b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–  U   –  U  – U   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537372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537372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537372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537372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479736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79736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479736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479736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4797360"/>
            <a:ext cx="2987640" cy="1297080"/>
          </a:xfrm>
          <a:prstGeom prst="parallelogram">
            <a:avLst>
              <a:gd name="adj" fmla="val 8424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n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č – z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m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ž – rek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m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j - d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04360" y="2637000"/>
            <a:ext cx="0" cy="19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49:41Z</dcterms:created>
  <dc:creator>Klementina</dc:creator>
  <dc:description/>
  <cp:keywords/>
  <dc:language>en-US</dc:language>
  <cp:lastModifiedBy>Klementina</cp:lastModifiedBy>
  <dcterms:modified xsi:type="dcterms:W3CDTF">2008-05-18T05:35:26Z</dcterms:modified>
  <cp:revision>2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33</vt:lpwstr>
  </property>
</Properties>
</file>