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8C9-BBB4-48BB-964C-F340EEC5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D33D-2321-46CF-BE94-63610A76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3C4-E571-4BA4-AC9B-4224FD2A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02D-0372-4D7C-9FAA-18C9168D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6B2A-DE6F-4883-951D-3E571087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6E81-6296-4083-98C0-CCB04B82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A0CD-721A-44BB-8030-470613D8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AA02-5466-419E-B68F-AE45A046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2DC3-3EE1-4D4A-8571-D37C3595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3AFE-A713-45DC-8AC3-3417568E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7ED6-7469-4D9C-AD65-A2FFE19B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18A-AAF6-40F6-A763-72BB3EEE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56C2-D497-47E7-BFD8-F6C14A17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9963-E2A2-4934-ADEF-07DBDE46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B1F3-4799-4B05-A92A-30FE15F9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AFC7-17A9-4371-BA83-188FDD6A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6E93-B23E-4C5F-803A-9A3E5295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640-BAAE-488D-B1FC-90FE92A3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942-D7B0-49B4-B512-E16FCDFB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7EA-2E50-42C9-A517-6D103E6D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949-7D30-47B5-8573-85FA5E79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98A-DDAA-4FA9-A3BF-53702193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E64-D158-4183-ACE9-CD109621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B61-2529-4BFC-A1F1-1EC2BBD4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761F-EB23-4A67-9478-7F016A45F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FDEF-D6F5-4193-9B2D-56D5D7F17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5292720" cy="372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16000" y="1844640"/>
            <a:ext cx="44640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pogovor med hčerjo in oče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o njeni skrivni ljubez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c0c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hčerino (ne)sprejemanj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očetovega svari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95560" y="4576680"/>
            <a:ext cx="48578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de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Ljubezen nima meja; najboljše zdravil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Verdana"/>
              </a:rPr>
              <a:t>za prepovedano ljubezen je porok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549360"/>
            <a:ext cx="7772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ffff00"/>
                </a:solidFill>
                <a:latin typeface="Verdana"/>
              </a:rPr>
              <a:t>F. Prešeren: Hčere sv</a:t>
            </a:r>
            <a:r>
              <a:rPr b="0" i="1" lang="en-US" sz="4400" spc="-1" strike="noStrike">
                <a:solidFill>
                  <a:srgbClr val="ffff00"/>
                </a:solidFill>
                <a:latin typeface="Verdana"/>
              </a:rPr>
              <a:t>è</a:t>
            </a:r>
            <a:r>
              <a:rPr b="0" i="1" lang="sl-SI" sz="4400" spc="-1" strike="noStrike">
                <a:solidFill>
                  <a:srgbClr val="ffff00"/>
                </a:solidFill>
                <a:latin typeface="Verdana"/>
              </a:rPr>
              <a:t>t</a:t>
            </a:r>
            <a:br>
              <a:rPr sz="4400"/>
            </a:br>
            <a:r>
              <a:rPr b="0" i="1" lang="sl-SI" sz="2400" spc="-1" strike="noStrike">
                <a:solidFill>
                  <a:srgbClr val="ffff00"/>
                </a:solidFill>
                <a:latin typeface="Arial"/>
              </a:rPr>
              <a:t>182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9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40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00000" y="475920"/>
            <a:ext cx="374328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Romanca (epik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sem s pripovedno vseb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gosta ljubezenska t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 vsebuje grozljivih motivov (balad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onec vesel ali humo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zvira iz srednjeveške ljudske pesmi oz. iz španske rom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64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549360"/>
            <a:ext cx="37432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Zunanja zgrad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kitice, različno število verz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i rime, pojavi se asonanca, enozložna (ujemanje samoglasniko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781360"/>
            <a:ext cx="3743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a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eliko dialektizmov, arhaizmov, manjšaln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2565360"/>
            <a:ext cx="374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verz je osemzložni troh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00720" y="2781360"/>
            <a:ext cx="863280" cy="165564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4797360"/>
            <a:ext cx="4959360" cy="1297080"/>
          </a:xfrm>
          <a:prstGeom prst="parallelogram">
            <a:avLst>
              <a:gd name="adj" fmla="val 95587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Ljubice pod okno dra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–  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U –   U  –  U  –  U  </a:t>
            </a:r>
            <a:br>
              <a:rPr sz="1800"/>
            </a:b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pride marsiktéro noč,</a:t>
            </a:r>
            <a:br>
              <a:rPr sz="1800"/>
            </a:b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–  U   –  U  – U   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537372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537372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537372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537372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479736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479736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479736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479736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4797360"/>
            <a:ext cx="2987640" cy="1297080"/>
          </a:xfrm>
          <a:prstGeom prst="parallelogram">
            <a:avLst>
              <a:gd name="adj" fmla="val 8424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n</a:t>
            </a:r>
            <a:r>
              <a:rPr b="1" lang="en-US" sz="1800" spc="-1" strike="noStrike" u="sng">
                <a:solidFill>
                  <a:srgbClr val="66ff33"/>
                </a:solidFill>
                <a:uFillTx/>
                <a:latin typeface="Verdana"/>
              </a:rPr>
              <a:t>o</a:t>
            </a: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č – z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m</a:t>
            </a:r>
            <a:r>
              <a:rPr b="1" lang="en-US" sz="1800" spc="-1" strike="noStrike" u="sng">
                <a:solidFill>
                  <a:srgbClr val="66ff33"/>
                </a:solidFill>
                <a:uFillTx/>
                <a:latin typeface="Verdana"/>
              </a:rPr>
              <a:t>o</a:t>
            </a: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ž – rek</a:t>
            </a:r>
            <a:r>
              <a:rPr b="1" lang="en-US" sz="1800" spc="-1" strike="noStrike" u="sng">
                <a:solidFill>
                  <a:srgbClr val="66ff33"/>
                </a:solidFill>
                <a:uFillTx/>
                <a:latin typeface="Verdana"/>
              </a:rPr>
              <a:t>o</a:t>
            </a: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m</a:t>
            </a:r>
            <a:r>
              <a:rPr b="1" lang="en-US" sz="1800" spc="-1" strike="noStrike" u="sng">
                <a:solidFill>
                  <a:srgbClr val="66ff33"/>
                </a:solidFill>
                <a:uFillTx/>
                <a:latin typeface="Verdana"/>
              </a:rPr>
              <a:t>o</a:t>
            </a: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j - d</a:t>
            </a:r>
            <a:r>
              <a:rPr b="1" lang="en-US" sz="1800" spc="-1" strike="noStrike" u="sng">
                <a:solidFill>
                  <a:srgbClr val="66ff33"/>
                </a:solidFill>
                <a:uFillTx/>
                <a:latin typeface="Verdana"/>
              </a:rPr>
              <a:t>o</a:t>
            </a: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04360" y="2637000"/>
            <a:ext cx="0" cy="194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2:49:41Z</dcterms:created>
  <dc:creator>Klementina</dc:creator>
  <dc:description/>
  <cp:keywords/>
  <dc:language>en-US</dc:language>
  <cp:lastModifiedBy>Klementina</cp:lastModifiedBy>
  <dcterms:modified xsi:type="dcterms:W3CDTF">2008-05-18T05:35:26Z</dcterms:modified>
  <cp:revision>2</cp:revision>
  <dc:subject/>
  <dc:title>Diapozitiv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801033</vt:lpwstr>
  </property>
</Properties>
</file>