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A261-F793-432D-828E-C42865F4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968A-A991-43C9-B73A-D236768A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69A-0F9F-4B16-A424-FEF9B9B8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43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71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86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5F1-BB6A-4B4A-BA0E-8BB1B97D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25C5-B350-4231-B49B-BB00A73F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221B-CFF8-4927-BD7D-EBDEFECA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F44B-6E06-4A12-A41C-476CECF8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3A20-5470-4270-A100-B5F5E9C9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7FC8-CC29-45F1-ABBF-56ABF5A9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AD0D-664B-419A-AFF3-9177E720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1302-6803-4BA5-A00C-BE371B1A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4490-EFD2-450A-907C-66ECA064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6F6B-D365-48E9-9494-340AD0BB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EC7E-FCF3-49AD-BE15-43CCA47F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C54D-14DD-425F-86C3-1A6C742C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7EFA-F68F-42B6-8EBE-12D0899E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7710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986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43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7710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986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7AAE-DA37-4CB4-85CC-B30650DC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629-2CED-4D71-BA2F-C58FF2FC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708-CAC9-42D9-A5C9-D2403C45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E71-788A-46A8-8C59-36E4EF5B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EBE3-E8A3-4BBB-8677-439E3081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09A6-28FF-42BE-934A-776DA05E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256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E96-22D3-42E3-8215-7C54490D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E33-4EDA-4CB0-AFEF-56F30905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60200" y="0"/>
            <a:ext cx="8972640" cy="6845400"/>
            <a:chOff x="160200" y="0"/>
            <a:chExt cx="897264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8320" cy="684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3320" cy="4667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880" cy="3352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240" cy="1218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60200" y="1409760"/>
              <a:ext cx="88963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3034-A3AE-4487-87EF-0EE7A05DC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60200" y="0"/>
            <a:ext cx="8982360" cy="6845400"/>
            <a:chOff x="160200" y="0"/>
            <a:chExt cx="8982360" cy="6845400"/>
          </a:xfrm>
        </p:grpSpPr>
        <p:sp>
          <p:nvSpPr>
            <p:cNvPr id="50" name=""/>
            <p:cNvSpPr/>
            <p:nvPr/>
          </p:nvSpPr>
          <p:spPr>
            <a:xfrm>
              <a:off x="236520" y="0"/>
              <a:ext cx="238320" cy="684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9560" y="0"/>
              <a:ext cx="373320" cy="5486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2200" y="0"/>
              <a:ext cx="1082880" cy="3352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" y="0"/>
              <a:ext cx="254160" cy="4419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2200" y="2610000"/>
              <a:ext cx="525240" cy="1218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00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7680" y="2476440"/>
              <a:ext cx="8624880" cy="133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bcb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0200" y="2476440"/>
              <a:ext cx="88963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B8AC-A6C2-48EE-A1A3-886D7605A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duca.fmf.uni-lj.si/izodel/ponudba/1996/preseren/galerija/velike/thurn50.jp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FRANCE PREŠEREN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38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Arial"/>
              </a:rPr>
              <a:t>KRST PRI SAVICI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vest v verzih, ep, pesnitev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836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 [Slika (80 kb)]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533520"/>
            <a:ext cx="897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KRST PRI SAVICI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ZLOGA ZA NASTANEK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snitev je nastala iz bolečine ob tragični izgubi prijatelja Matije Čop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končna odpoved Juliji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8120" y="4468680"/>
            <a:ext cx="2971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ZUNANJA ZGRADBA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ffffff"/>
                </a:solidFill>
                <a:latin typeface="Arial"/>
              </a:rPr>
              <a:t>3 DELI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ffffff"/>
                </a:solidFill>
                <a:latin typeface="Arial"/>
              </a:rPr>
              <a:t>posvetilni sonet Matiji Čopu (sonet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ffffff"/>
                </a:solidFill>
                <a:latin typeface="Arial"/>
              </a:rPr>
              <a:t>UVOD (26 tercin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ffffff"/>
                </a:solidFill>
                <a:latin typeface="Arial"/>
              </a:rPr>
              <a:t>KRST (53 stanc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UVO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ffffff"/>
                </a:solidFill>
                <a:latin typeface="Arial"/>
              </a:rPr>
              <a:t>TEMA: ljubezen do domovin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ffffff"/>
                </a:solidFill>
                <a:latin typeface="Arial"/>
              </a:rPr>
              <a:t>IDEJA: nacionalna in svobodoljubna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ffffff"/>
                </a:solidFill>
                <a:latin typeface="Arial"/>
              </a:rPr>
              <a:t>ZUNANJA ZGRADBA UVODA: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ffffff"/>
                </a:solidFill>
                <a:latin typeface="Arial"/>
              </a:rPr>
              <a:t>1. del: boji med kristjani in pogani – umik poganov v Ajdovski gradec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ffffff"/>
                </a:solidFill>
                <a:latin typeface="Arial"/>
              </a:rPr>
              <a:t>2. del: odločitev za nočni izpad – Črtomirjev samogovor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ffffff"/>
                </a:solidFill>
                <a:latin typeface="Arial"/>
              </a:rPr>
              <a:t>3. del: “mesarsko klanje”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KRS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61722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ffffff"/>
                </a:solidFill>
                <a:latin typeface="Arial"/>
              </a:rPr>
              <a:t>1. del: Črtomir ob Bohinjskem jezeru: misel na samomo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ffffff"/>
                </a:solidFill>
                <a:latin typeface="Arial"/>
              </a:rPr>
              <a:t>2. del: srečanje Bogomil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ffffff"/>
                </a:solidFill>
                <a:latin typeface="Arial"/>
              </a:rPr>
              <a:t>in Črtomira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ffffff"/>
                </a:solidFill>
                <a:latin typeface="Arial"/>
              </a:rPr>
              <a:t>3. del: Črtomirjev krst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sl-SI" sz="2000" spc="-1" strike="noStrike">
                <a:solidFill>
                  <a:srgbClr val="ffffff"/>
                </a:solidFill>
                <a:latin typeface="Arial"/>
              </a:rPr>
              <a:t>Domu je Bogomila šla k očeti,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ffffff"/>
                </a:solidFill>
                <a:latin typeface="Arial"/>
              </a:rPr>
              <a:t>nič več se nista videla na sveti.”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900760" y="1752480"/>
            <a:ext cx="324324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ČRTOMIRJEVA USODA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33"/>
                </a:solidFill>
                <a:latin typeface="Arial"/>
              </a:rPr>
              <a:t>Črtomirjev dvakratni poraz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jegovo ljudstvo izgubi svobod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n sam izgubi ljubezensko sreč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Č. zgodba potrjuje, da je posameznik igrača v rokah usode; odloči se sicer za življenje, čeprav to pomeni resignirano vztrajanje brez upa sreče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Notranja zgradb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2666880"/>
            <a:ext cx="39621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O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epično-dramatič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zunanji bo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ter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2666880"/>
            <a:ext cx="3962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S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rič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ranji bo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INTERPRETACIJE KRSTA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b izidu je pesnitev zbudila zadovoljstvo duhovščine, ki je v njej videla proslavljanje pokristjanjevanja, ker naj bi bil to smisel Črtomirjevega krsta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ŠKERC, ŽUPANČIČ: Č. značaju očitata nemoškost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. PRIJATELJ: Č. krst je posledica Prešernovega zloma ob Čopovi smrti, saj naj bi se v obupu za nekaj časa zatekel h krščanstvu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ZMISLEK: Č. se najbrž pokristjani iz ljubezni do B., ki ji ta krst pomeni edini smisel življenja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lementina</cp:lastModifiedBy>
  <dcterms:modified xsi:type="dcterms:W3CDTF">2008-08-16T20:11:1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