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0820-A074-4588-A832-E670C6E58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1A64-4302-451A-8D99-5337F007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DF66-8570-4CDF-82F0-374811364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630C-08DE-4D5E-95AE-832165B3F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225C-BA59-406A-8416-2A66F978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AE4E-4B62-4EF1-AD0E-F309C9CB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A0A5-78EC-4B6D-AD9F-B05A28DA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8D25-84B8-438E-988E-51969D6B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2022-AF3C-4798-A200-5FFDD071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B91F-D3B0-475A-B066-43B5A66C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0DB2-C776-4D0B-8E32-BFBE3B05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B24F-4140-4B39-8E59-738C2592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8121-5527-4E0C-A2FA-252EEB506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260280"/>
          <a:ext cx="8640720" cy="6575400"/>
        </p:xfrm>
        <a:graphic>
          <a:graphicData uri="http://schemas.openxmlformats.org/drawingml/2006/table">
            <a:tbl>
              <a:tblPr/>
              <a:tblGrid>
                <a:gridCol w="1680840"/>
                <a:gridCol w="1087560"/>
                <a:gridCol w="1441440"/>
                <a:gridCol w="2590920"/>
                <a:gridCol w="1839960"/>
              </a:tblGrid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GAJA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Č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EDIT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uga polovica 6. sto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užbeno-plemen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redno in ljudsko slovstv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frankovska nadobla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emenska knežev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gani </a:t>
                      </a:r>
                      <a:r>
                        <a:rPr b="0" lang="sl-SI" sz="1200" spc="-1" strike="noStrike">
                          <a:solidFill>
                            <a:srgbClr val="92d050"/>
                          </a:solidFill>
                          <a:latin typeface="Arial"/>
                          <a:ea typeface="Times New Roman"/>
                        </a:rPr>
                        <a:t>link na slovanske bogove http://www.geocities.com/tyos01/bogovi.ht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zguba samostojnosti (Bavarci in Franki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 in 9. sto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emenska, fevdaliz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vdaliz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ščanstv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b0f0"/>
                          </a:solidFill>
                          <a:latin typeface="Arial"/>
                          <a:ea typeface="Times New Roman"/>
                        </a:rPr>
                        <a:t>nastanek samostojne države Karantani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b0f0"/>
                          </a:solidFill>
                          <a:latin typeface="Arial"/>
                          <a:ea typeface="Times New Roman"/>
                        </a:rPr>
                        <a:t>naselitev Slovenc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b0f0"/>
                          </a:solidFill>
                          <a:latin typeface="Arial"/>
                          <a:ea typeface="Times New Roman"/>
                        </a:rPr>
                        <a:t>10. sto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b0f0"/>
                          </a:solidFill>
                          <a:latin typeface="Arial"/>
                          <a:ea typeface="Times New Roman"/>
                        </a:rPr>
                        <a:t>prvi zapiski v slovenskem jeziku - PISMENSTVO, ljudsko slovst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b0f0"/>
                          </a:solidFill>
                          <a:latin typeface="Arial"/>
                          <a:ea typeface="Times New Roman"/>
                        </a:rPr>
                        <a:t>opismenjevanje prvih Slovencev, ljudsko slovst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b0f0"/>
                          </a:solidFill>
                          <a:latin typeface="Arial"/>
                          <a:ea typeface="Times New Roman"/>
                        </a:rPr>
                        <a:t>pokristjanjevanje (Ciril in Meto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b0f0"/>
                          </a:solidFill>
                          <a:latin typeface="Arial"/>
                          <a:ea typeface="Times New Roman"/>
                        </a:rPr>
                        <a:t>poga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b0f0"/>
                          </a:solidFill>
                          <a:latin typeface="Arial"/>
                          <a:ea typeface="Times New Roman"/>
                        </a:rPr>
                        <a:t>7. sto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b0f0"/>
                          </a:solidFill>
                          <a:latin typeface="Arial"/>
                          <a:ea typeface="Times New Roman"/>
                        </a:rPr>
                        <a:t>ustoličevanje karantanskih knezov, ljudsko slovstvo, obredne pes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" name="knezji kamen" descr=""/>
          <p:cNvPicPr/>
          <p:nvPr/>
        </p:nvPicPr>
        <p:blipFill>
          <a:blip r:embed="rId1"/>
          <a:stretch/>
        </p:blipFill>
        <p:spPr>
          <a:xfrm>
            <a:off x="5076720" y="1484280"/>
            <a:ext cx="1371600" cy="905040"/>
          </a:xfrm>
          <a:prstGeom prst="rect">
            <a:avLst/>
          </a:prstGeom>
          <a:ln w="0">
            <a:noFill/>
          </a:ln>
        </p:spPr>
      </p:pic>
      <p:pic>
        <p:nvPicPr>
          <p:cNvPr id="43" name="karel veliki" descr=""/>
          <p:cNvPicPr/>
          <p:nvPr/>
        </p:nvPicPr>
        <p:blipFill>
          <a:blip r:embed="rId2"/>
          <a:stretch/>
        </p:blipFill>
        <p:spPr>
          <a:xfrm>
            <a:off x="755640" y="3500280"/>
            <a:ext cx="1015920" cy="1368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73080" y="1376280"/>
            <a:ext cx="1619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rcRect l="27309" t="3576" r="7400" b="36805"/>
          <a:stretch/>
        </p:blipFill>
        <p:spPr>
          <a:xfrm>
            <a:off x="7164360" y="1413000"/>
            <a:ext cx="167184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08:30:24Z</dcterms:created>
  <dc:creator>SOLA</dc:creator>
  <dc:description/>
  <dc:language>en-US</dc:language>
  <cp:lastModifiedBy>SOLA</cp:lastModifiedBy>
  <dcterms:modified xsi:type="dcterms:W3CDTF">2008-08-22T08:42:50Z</dcterms:modified>
  <cp:revision>2</cp:revision>
  <dc:subject/>
  <dc:title>Diapozitiv 1</dc:title>
</cp:coreProperties>
</file>