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CED-FEFC-4056-B336-51551321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20F-3A8A-4C06-A07C-085F4763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9E3-FF6A-445E-B36B-DA26E226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45A-D9ED-4348-AD85-FEE36AC2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9266-D049-495B-85E2-E6D7E921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B62B-AC1B-4C7A-96AA-0B10B29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FB0F-06BE-495A-96D8-0AA7BC8E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EF24-2239-4959-8E82-EB7BD52D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9C70-7A9A-4963-A24D-CBD16748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E0D5-4341-4EA2-94E2-C7A5FD64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FAEE-E14E-4F77-834D-45B8AB44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C13-7A70-4C9A-83DE-F9EA2BED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5C52-87B6-4B7D-8D9A-5A5839E1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E546-9DE5-40B1-A571-82D212FE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47A3-826C-4AC4-972D-D01408A2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5296-248C-483D-9C1C-282CFD6F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7D73-F324-4723-B035-3E44D753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8DE-BFEC-485A-9735-8817A893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F64-48AC-4E39-9286-109E8224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65E-0A2F-43FA-A959-9030A3B7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900-61CE-4D59-B716-C5AF38FC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C14-C162-42C6-9663-BAF4B7D9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543-93F8-426B-B8B1-822BC4D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519-8020-4408-8D3A-DE5819FA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1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2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3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4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5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6" marL="150840" indent="-150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8FA6-ED3C-423B-93E0-FBB244D13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4CA-88CB-4020-B0F0-14B65DA11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Verdana"/>
              </a:rPr>
              <a:t>Aleksander Sergejevič Puškin: </a:t>
            </a:r>
            <a:br>
              <a:rPr sz="3600"/>
            </a:br>
            <a:r>
              <a:rPr b="1" lang="sl-SI" sz="3600" spc="-1" strike="noStrike">
                <a:solidFill>
                  <a:srgbClr val="ffffff"/>
                </a:solidFill>
                <a:latin typeface="Verdana"/>
              </a:rPr>
              <a:t>A. P. Kernov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43800" y="5773680"/>
            <a:ext cx="1452600" cy="108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01000" y="3886200"/>
            <a:ext cx="914400" cy="1325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145520" y="4114800"/>
            <a:ext cx="425268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osebnoizpovedna ljubezenska pes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svečena Ani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44956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66720" y="4876920"/>
            <a:ext cx="342900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227800">
            <a:off x="5334120" y="5410080"/>
            <a:ext cx="1752480" cy="1143000"/>
          </a:xfrm>
          <a:custGeom>
            <a:avLst/>
            <a:gdLst>
              <a:gd name="textAreaLeft" fmla="*/ 411840 w 1752480"/>
              <a:gd name="textAreaRight" fmla="*/ 1339560 w 1752480"/>
              <a:gd name="textAreaTop" fmla="*/ 134280 h 1143000"/>
              <a:gd name="textAreaBottom" fmla="*/ 717120 h 1143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5b5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715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SI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5410080"/>
            <a:ext cx="3352680" cy="1295640"/>
          </a:xfrm>
          <a:prstGeom prst="ellipse">
            <a:avLst/>
          </a:prstGeom>
          <a:solidFill>
            <a:srgbClr val="ff5b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LEPOTE in NAVD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43800" y="5638680"/>
            <a:ext cx="1452600" cy="1084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51920" y="152280"/>
            <a:ext cx="2667240" cy="147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Snov:</a:t>
            </a:r>
            <a:r>
              <a:rPr b="0" lang="sl-SI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Verdana"/>
              </a:rPr>
              <a:t>spominsk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838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106668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1371600"/>
            <a:ext cx="3429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1371600"/>
            <a:ext cx="26672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sl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04920"/>
            <a:ext cx="266688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rojstvo ljubez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68580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438280"/>
            <a:ext cx="26668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ponovno sreč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6668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733920"/>
            <a:ext cx="2362320" cy="286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LIRSKI SUBJEK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Verdana"/>
              </a:rPr>
              <a:t>ponovno začuti: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vita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harmoni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smisel življe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585720" cy="48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49920" y="4114800"/>
            <a:ext cx="297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Verdana"/>
              </a:rPr>
              <a:t>Glavna motiva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moč ljub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esniški navd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556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Verdana"/>
              </a:rPr>
              <a:t>Zgradba in slog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43800" y="5638680"/>
            <a:ext cx="1452600" cy="1084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2971800"/>
            <a:ext cx="2971800" cy="1523880"/>
          </a:xfrm>
          <a:prstGeom prst="ellipse">
            <a:avLst/>
          </a:prstGeom>
          <a:solidFill>
            <a:srgbClr val="ff5b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ki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Verdana"/>
              </a:rPr>
              <a:t>6 kvar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029200"/>
            <a:ext cx="2971800" cy="1523880"/>
          </a:xfrm>
          <a:prstGeom prst="ellipse">
            <a:avLst/>
          </a:prstGeom>
          <a:solidFill>
            <a:srgbClr val="ff5b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prestop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5105520"/>
            <a:ext cx="3124080" cy="1523880"/>
          </a:xfrm>
          <a:prstGeom prst="ellipse">
            <a:avLst/>
          </a:prstGeom>
          <a:solidFill>
            <a:srgbClr val="ff5b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fig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"/>
              </a:rPr>
              <a:t>epiteti, komparacij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200" spc="-1" strike="noStrike">
                <a:solidFill>
                  <a:srgbClr val="ffffff"/>
                </a:solidFill>
                <a:latin typeface="Arial"/>
              </a:rPr>
              <a:t>inverzija, metaf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2971800"/>
            <a:ext cx="2971800" cy="1523880"/>
          </a:xfrm>
          <a:prstGeom prst="ellipse">
            <a:avLst/>
          </a:prstGeom>
          <a:solidFill>
            <a:srgbClr val="ff5b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er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8-9-zložni ja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85640" y="175248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7760" y="1752480"/>
            <a:ext cx="106668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1752480"/>
            <a:ext cx="53352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7652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41:13Z</dcterms:created>
  <dc:creator>Wendy Russell</dc:creator>
  <dc:description/>
  <dc:language>en-US</dc:language>
  <cp:lastModifiedBy>Klementina</cp:lastModifiedBy>
  <dcterms:modified xsi:type="dcterms:W3CDTF">2008-04-30T20:39:12Z</dcterms:modified>
  <cp:revision>10</cp:revision>
  <dc:subject/>
  <dc:title>Valentine Sample Story Template</dc:title>
</cp:coreProperties>
</file>