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36D-BE6A-4694-A4CB-90472179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B44-034C-4A3B-A591-8CF0CF81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DD6-0C8D-4AB1-A7D0-058DF618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64F-6047-434B-959B-BCA9F171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BC6-6186-4B56-8D1A-02AC209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247-25A9-4A60-BD87-E501C18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FDF-1317-4F76-902C-27D63AE1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C7D-C0E0-4FC8-A65B-7C3E9AFB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13C-909B-4F07-9510-D60E3436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60E-10D4-41F7-8A51-3106451E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6EE-2942-4143-9160-40E4135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B42-22EC-41AE-B7E7-A76C54D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26C2-9C2A-47FF-AF8D-0175F4FB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751280" y="4653000"/>
            <a:ext cx="4392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Ukradel si mi srce, pa ne ve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Imaš moje srce, pa tega ne ve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aradi tebe trpi moje srce, pa ne ve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Nate misli moje srce, a tudi tega ne ve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Zaradi tebe bo jokalo moje sr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a tudi tega ti ne veš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Kdo je avtor besedila? Je zn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Neznano zapuš</a:t>
            </a:r>
            <a:r>
              <a:rPr b="0" i="1" lang="en-US" sz="2800" spc="-1" strike="noStrike">
                <a:solidFill>
                  <a:srgbClr val="ff0066"/>
                </a:solidFill>
                <a:latin typeface="Monotype Corsiva"/>
                <a:ea typeface="Times New Roman"/>
              </a:rPr>
              <a:t>č</a:t>
            </a: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eno dek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li podobne to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e v (neumetnostnih) verzih izra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jo tudi mošk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Redko, enako pogosto kot </a:t>
            </a:r>
            <a:r>
              <a:rPr b="0" i="1" lang="en-US" sz="2800" spc="-1" strike="noStrike">
                <a:solidFill>
                  <a:srgbClr val="ff0066"/>
                </a:solidFill>
                <a:latin typeface="Monotype Corsiva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ff0066"/>
                </a:solidFill>
                <a:latin typeface="Monotype Corsiva"/>
              </a:rPr>
              <a:t>enske pa jih zapoj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Pa prisluhni to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i (</a:t>
            </a:r>
            <a:r>
              <a:rPr b="0" i="1" lang="en-US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e umrlega) pevca, ki poje o zapuščeni ljube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15:38Z</dcterms:created>
  <dc:creator>Klementina</dc:creator>
  <dc:description/>
  <dc:language>en-US</dc:language>
  <cp:lastModifiedBy>Klementina</cp:lastModifiedBy>
  <dcterms:modified xsi:type="dcterms:W3CDTF">2008-08-19T18:22:21Z</dcterms:modified>
  <cp:revision>2</cp:revision>
  <dc:subject/>
  <dc:title>Diapozitiv 1</dc:title>
</cp:coreProperties>
</file>