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A75-8DC3-495C-82A8-15D37A52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D02-9109-481A-BC10-CBDEA94C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7A6-2CD0-450D-85FE-65D88A53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98F-5425-4F9B-84D9-E0719EA6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3FB4-6D5D-41F2-9C09-C14A8863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F831-C1BA-4BED-A6DA-E8650385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DC95-B287-4C84-A75B-F9A3B1B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BA1B-6349-47E3-A68E-10F872D3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4B34-4AE5-40D0-AAE0-7405F9EA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9F76-38B4-459C-8370-284C1DB9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3CA-8145-4ABE-A530-DA25989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FC6-3D67-406D-B61F-9DFA7DAF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C0F-9C7E-42EC-B89B-0363413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957-62F1-4842-8129-15B806B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235-18F2-475E-877E-E98D25C4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17EC-0399-477C-9F0E-58ED85E5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EBA-87C6-4015-A9F0-35EF5622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719-4F6B-44EC-86B4-305333BF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05D-DE3C-4992-B49A-94DC050D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11C-0B5C-4374-B291-8E62F954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60D-5DD6-4AAB-B272-4A19E924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2C6-54F6-4875-9D2F-11846D6A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2C9-E05D-4D55-96D9-FDA022DB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5177-849B-48B8-AAE1-0C88137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7858-8B6A-402F-9286-2BFB196A746A}" type="datetime">
              <a:rPr b="0" lang="sl-SI" sz="10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54F0-F7DC-4955-8153-5EB8DCB99FD8}" type="slidenum">
              <a:rPr b="0" lang="sl-S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57BA-39C5-4BEC-9DA4-992D142E03ED}" type="datetime">
              <a:rPr b="0" lang="sl-SI" sz="10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ADE-D1AA-4087-9473-AC2DB7F294AD}" type="slidenum">
              <a:rPr b="0" lang="sl-SI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0920" y="250560"/>
            <a:ext cx="7634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f444e3"/>
                </a:solidFill>
                <a:latin typeface="OCRB"/>
              </a:rPr>
              <a:t>VZROKI ZA NASTANEK ROMANTIK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137680"/>
            <a:ext cx="84596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Francoska revolucija (1789–179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Kantova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filozofij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Myriad Web"/>
              </a:rPr>
              <a:t>- nasprotje med človekovim ideali in stvarnostj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Myriad Web"/>
              </a:rPr>
              <a:t>(željami, upi in resničnostj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444e3"/>
                </a:solidFill>
                <a:latin typeface="Myriad Web"/>
              </a:rPr>
              <a:t>UM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- Nasprotje so romantiki poskušali premagati z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domišljijo;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v njej so ustvarjali svet lepote, resnice ali dobrote,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v nara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- sentimentaliz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4581360"/>
            <a:ext cx="0" cy="432000"/>
          </a:xfrm>
          <a:prstGeom prst="line">
            <a:avLst/>
          </a:prstGeom>
          <a:ln w="57240">
            <a:solidFill>
              <a:srgbClr val="f444e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95840"/>
            <a:ext cx="7632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444e3"/>
                </a:solidFill>
                <a:latin typeface="OCRB"/>
              </a:rPr>
              <a:t>ROMANTIKA (1750-180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639440"/>
            <a:ext cx="8424720" cy="50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Izraz “romantika” prihaja iz besede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ROMAN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Prvotno je “romantično” pomenilo “tako kot v romanih” (= nekaj domišljijsko lepeg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izmišljenega, nestvarnega, čustveneg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Podlaga romantiki je novi tip osebnosti –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ROMANTIČNI ČLOVEK/JUNAK, </a:t>
            </a:r>
            <a:r>
              <a:rPr b="0" lang="sl-SI" sz="2400" spc="-1" strike="noStrike">
                <a:solidFill>
                  <a:srgbClr val="ffffff"/>
                </a:solidFill>
                <a:latin typeface="Myriad Web"/>
              </a:rPr>
              <a:t>ki 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Myriad Web"/>
              </a:rPr>
              <a:t>notranje bogat, plemenit in </a:t>
            </a:r>
            <a:r>
              <a:rPr b="0" lang="sl-SI" sz="2400" spc="-1" strike="noStrike">
                <a:solidFill>
                  <a:srgbClr val="f444e3"/>
                </a:solidFill>
                <a:latin typeface="Myriad Web"/>
              </a:rPr>
              <a:t>skrivnosten</a:t>
            </a:r>
            <a:r>
              <a:rPr b="0" lang="sl-SI" sz="2400" spc="-1" strike="noStrike">
                <a:solidFill>
                  <a:srgbClr val="ffffff"/>
                </a:solidFill>
                <a:latin typeface="Myriad Web"/>
              </a:rPr>
              <a:t>. Značilno zanj j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Myriad Web"/>
              </a:rPr>
              <a:t>da je ves čas v sporu z družbo, njenimi hotenji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Myriad Web"/>
              </a:rPr>
              <a:t>navadami, vrednotami in uveljavljenim odnosom do lepeg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444e3"/>
                </a:solidFill>
                <a:latin typeface="OCRB"/>
              </a:rPr>
              <a:t>ROMANTIčNE TEME</a:t>
            </a:r>
            <a:br>
              <a:rPr sz="4800"/>
            </a:br>
            <a:r>
              <a:rPr b="1" lang="sl-SI" sz="4800" spc="-1" strike="noStrike">
                <a:solidFill>
                  <a:srgbClr val="f444e3"/>
                </a:solidFill>
                <a:latin typeface="OCRB"/>
              </a:rPr>
              <a:t>IN MOTIVI</a:t>
            </a:r>
            <a:br>
              <a:rPr sz="48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(nesrečna, neuresničena) ljubezen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prijateljstvo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narava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domovinski motivi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svobodoljubje</a:t>
            </a:r>
            <a:br>
              <a:rPr sz="2400"/>
            </a:br>
            <a:br>
              <a:rPr sz="2400"/>
            </a:br>
            <a:r>
              <a:rPr b="0" lang="sl-SI" sz="2400" spc="-1" strike="noStrike">
                <a:solidFill>
                  <a:srgbClr val="f4bc40"/>
                </a:solidFill>
                <a:latin typeface="Myriad Web"/>
              </a:rPr>
              <a:t>- motiv samomora</a:t>
            </a:r>
            <a:endParaRPr b="0" lang="en-US" sz="2400" spc="-1" strike="noStrike">
              <a:solidFill>
                <a:srgbClr val="f4bc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-19440"/>
            <a:ext cx="806436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f444e3"/>
                </a:solidFill>
                <a:latin typeface="OCRB"/>
              </a:rPr>
              <a:t>ZVRSTI IN VRS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f444e3"/>
                </a:solidFill>
                <a:latin typeface="OCRB"/>
              </a:rPr>
              <a:t>V ROMANTIK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Cloud"/>
          <p:cNvSpPr/>
          <p:nvPr/>
        </p:nvSpPr>
        <p:spPr>
          <a:xfrm>
            <a:off x="250920" y="2565360"/>
            <a:ext cx="2160360" cy="1440000"/>
          </a:xfrm>
          <a:prstGeom prst="pie">
            <a:avLst/>
          </a:prstGeom>
          <a:solidFill>
            <a:srgbClr val="824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Myriad Web"/>
              </a:rPr>
              <a:t>lirske pes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Cloud"/>
          <p:cNvSpPr/>
          <p:nvPr/>
        </p:nvSpPr>
        <p:spPr>
          <a:xfrm>
            <a:off x="2195640" y="3213000"/>
            <a:ext cx="2663640" cy="1509840"/>
          </a:xfrm>
          <a:prstGeom prst="pie">
            <a:avLst/>
          </a:prstGeom>
          <a:solidFill>
            <a:srgbClr val="9280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4bc40"/>
                </a:solidFill>
                <a:latin typeface="Myriad Web"/>
              </a:rPr>
              <a:t>romani v verz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Cloud"/>
          <p:cNvSpPr/>
          <p:nvPr/>
        </p:nvSpPr>
        <p:spPr>
          <a:xfrm>
            <a:off x="4572000" y="2060640"/>
            <a:ext cx="2881440" cy="163188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Myriad Web"/>
              </a:rPr>
              <a:t>romani v pro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Cloud"/>
          <p:cNvSpPr/>
          <p:nvPr/>
        </p:nvSpPr>
        <p:spPr>
          <a:xfrm>
            <a:off x="2556000" y="4581360"/>
            <a:ext cx="4968720" cy="1919520"/>
          </a:xfrm>
          <a:prstGeom prst="pie">
            <a:avLst/>
          </a:prstGeom>
          <a:solidFill>
            <a:srgbClr val="824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399"/>
                </a:solidFill>
                <a:latin typeface="Myriad Web"/>
              </a:rPr>
              <a:t>romani v obliki pisem ali dnevniških zapisk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95280" y="403560"/>
            <a:ext cx="748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5400" spc="-1" strike="noStrike">
                <a:solidFill>
                  <a:srgbClr val="f444e3"/>
                </a:solidFill>
                <a:latin typeface="OCRB"/>
              </a:rPr>
              <a:t>RAZVOJ PO DEŽELA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704600"/>
            <a:ext cx="8604360" cy="47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ffffff"/>
                </a:solidFill>
                <a:uFillTx/>
                <a:latin typeface="Myriad Web"/>
              </a:rPr>
              <a:t>NEMČ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Goethe,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Heine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ffffff"/>
                </a:solidFill>
                <a:uFillTx/>
                <a:latin typeface="Myriad Web"/>
              </a:rPr>
              <a:t>ANGLI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Razvija se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sočasno z nemško romantik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</a:t>
            </a: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Byron</a:t>
            </a:r>
            <a:r>
              <a:rPr b="0" lang="sl-SI" sz="2800" spc="-1" strike="noStrike">
                <a:solidFill>
                  <a:srgbClr val="ffffff"/>
                </a:solidFill>
                <a:latin typeface="Myriad Web"/>
              </a:rPr>
              <a:t> ustvari novo obliko romantične povesti v verzi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ffffff"/>
                </a:solidFill>
                <a:uFillTx/>
                <a:latin typeface="Myriad Web"/>
              </a:rPr>
              <a:t>SLOVANSKI NARO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Myria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Myriad Web"/>
              </a:rPr>
              <a:t>Puškin, Lermontov (RUSIJ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8:37:02Z</dcterms:created>
  <dc:creator>MAŠA</dc:creator>
  <dc:description/>
  <dc:language>en-US</dc:language>
  <cp:lastModifiedBy>Klementina</cp:lastModifiedBy>
  <cp:lastPrinted>1996-03-06T00:24:38Z</cp:lastPrinted>
  <dcterms:modified xsi:type="dcterms:W3CDTF">2008-09-05T20:57:59Z</dcterms:modified>
  <cp:revision>50</cp:revision>
  <dc:subject/>
  <dc:title>France Prešeren: KRST PRI SAVICI</dc:title>
</cp:coreProperties>
</file>